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FC1-B264-4BF1-912C-9891203F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9E4-5F41-4FBC-8AD5-5805CA4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331-6234-4FCC-81C0-CE542E0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DD0-A619-426C-97A3-0701B8D0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9C4-29BD-4A90-A298-A823AA52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4C9-210A-416D-80E4-CC140D38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619-BD8E-4AB9-BAEE-163E7655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95E-E807-4EFA-B700-4175991F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A36-24A2-491B-B8AA-173093E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9AB-2957-4C2E-A83E-DF7FE03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C0-21F0-4130-ACB6-B3B619B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613-D989-4CA6-AA67-FA35B73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8CE-19E5-4583-9435-4FE83C91B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brary.taganrog.ru/chehov/alley/taganrog/17.jpg" TargetMode="External"/><Relationship Id="rId2" Type="http://schemas.openxmlformats.org/officeDocument/2006/relationships/hyperlink" Target="http://fotki.yandex.ru/users/aig1001/view/288492/?page=2" TargetMode="External"/><Relationship Id="rId3" Type="http://schemas.openxmlformats.org/officeDocument/2006/relationships/hyperlink" Target="http://fotki.yandex.ru/users/slxk82/view/258897/?page=1" TargetMode="External"/><Relationship Id="rId4" Type="http://schemas.openxmlformats.org/officeDocument/2006/relationships/hyperlink" Target="http://ymp3.ru/track25921.html" TargetMode="External"/><Relationship Id="rId5" Type="http://schemas.openxmlformats.org/officeDocument/2006/relationships/hyperlink" Target="http://www.library.taganrog.ru/chehov/alley/taganrog/17.jpg" TargetMode="External"/><Relationship Id="rId6" Type="http://schemas.openxmlformats.org/officeDocument/2006/relationships/hyperlink" Target="http://fotki.yandex.ru/users/aig1001/view/288492/?page=2" TargetMode="External"/><Relationship Id="rId7" Type="http://schemas.openxmlformats.org/officeDocument/2006/relationships/hyperlink" Target="http://fotki.yandex.ru/users/slxk82/view/258897/?page=1" TargetMode="External"/><Relationship Id="rId8" Type="http://schemas.openxmlformats.org/officeDocument/2006/relationships/hyperlink" Target="http://ymp3.ru/track25921.html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fotki.yandex.ru/users/aig1001/view/300006/?page=2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Arial"/>
              </a:rPr>
              <a:t>Подкопаева Наталья Васильевна, учитель русского языка и литературы МБОУ СОШ №2 города Липец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Домик Чехова издали"/>
          <p:cNvPicPr/>
          <p:nvPr/>
        </p:nvPicPr>
        <p:blipFill>
          <a:blip r:embed="rId1"/>
          <a:stretch/>
        </p:blipFill>
        <p:spPr>
          <a:xfrm rot="4590600">
            <a:off x="435960" y="1316160"/>
            <a:ext cx="1488960" cy="2057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44" name="Picture 8" descr="Изображение 71"/>
          <p:cNvPicPr/>
          <p:nvPr/>
        </p:nvPicPr>
        <p:blipFill>
          <a:blip r:embed="rId2"/>
          <a:stretch/>
        </p:blipFill>
        <p:spPr>
          <a:xfrm rot="20935200">
            <a:off x="2514240" y="685440"/>
            <a:ext cx="1981080" cy="1382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45" name="Picture 9" descr="лавка Чеховых после ремонта"/>
          <p:cNvPicPr/>
          <p:nvPr/>
        </p:nvPicPr>
        <p:blipFill>
          <a:blip r:embed="rId3"/>
          <a:stretch/>
        </p:blipFill>
        <p:spPr>
          <a:xfrm rot="20955000">
            <a:off x="762120" y="533160"/>
            <a:ext cx="2133360" cy="14205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46" name="Text Box 11"/>
          <p:cNvSpPr/>
          <p:nvPr/>
        </p:nvSpPr>
        <p:spPr>
          <a:xfrm>
            <a:off x="2286000" y="46483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(виртуальная экскурсия по местам детства и юности Антона Павловича Чех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2438280" y="2286000"/>
            <a:ext cx="6477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Таганрог: три дома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Антоши Чехов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8" name="Solitary Bird2.wma" descr=""/>
          <p:cNvPicPr/>
          <p:nvPr/>
        </p:nvPicPr>
        <p:blipFill>
          <a:blip r:embed="rId4"/>
          <a:stretch/>
        </p:blipFill>
        <p:spPr>
          <a:xfrm>
            <a:off x="0" y="6553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3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228600" y="57913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Второй э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763120" y="2819520"/>
            <a:ext cx="380880" cy="1143000"/>
          </a:xfrm>
          <a:custGeom>
            <a:avLst/>
            <a:gdLst>
              <a:gd name="textAreaLeft" fmla="*/ 0 w 380880"/>
              <a:gd name="textAreaRight" fmla="*/ 381240 w 3808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762120" y="914400"/>
            <a:ext cx="6883200" cy="4819680"/>
            <a:chOff x="762120" y="914400"/>
            <a:chExt cx="6883200" cy="4819680"/>
          </a:xfrm>
        </p:grpSpPr>
        <p:pic>
          <p:nvPicPr>
            <p:cNvPr id="135" name="Picture 7" descr="Изображение 106"/>
            <p:cNvPicPr/>
            <p:nvPr/>
          </p:nvPicPr>
          <p:blipFill>
            <a:blip r:embed="rId1"/>
            <a:stretch/>
          </p:blipFill>
          <p:spPr>
            <a:xfrm>
              <a:off x="1219320" y="914400"/>
              <a:ext cx="6426000" cy="48196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sp>
          <p:nvSpPr>
            <p:cNvPr id="136" name="Text Box 15"/>
            <p:cNvSpPr/>
            <p:nvPr/>
          </p:nvSpPr>
          <p:spPr>
            <a:xfrm>
              <a:off x="762120" y="54100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7"/>
          <p:cNvGrpSpPr/>
          <p:nvPr/>
        </p:nvGrpSpPr>
        <p:grpSpPr>
          <a:xfrm>
            <a:off x="152280" y="990720"/>
            <a:ext cx="8534520" cy="4114800"/>
            <a:chOff x="152280" y="990720"/>
            <a:chExt cx="8534520" cy="4114800"/>
          </a:xfrm>
        </p:grpSpPr>
        <p:pic>
          <p:nvPicPr>
            <p:cNvPr id="138" name="Picture 18" descr="Изображение 099"/>
            <p:cNvPicPr/>
            <p:nvPr/>
          </p:nvPicPr>
          <p:blipFill>
            <a:blip r:embed="rId2"/>
            <a:stretch/>
          </p:blipFill>
          <p:spPr>
            <a:xfrm>
              <a:off x="3276720" y="990720"/>
              <a:ext cx="541008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39" name="Picture 19" descr="Изображение 100"/>
            <p:cNvPicPr/>
            <p:nvPr/>
          </p:nvPicPr>
          <p:blipFill>
            <a:blip r:embed="rId3"/>
            <a:stretch/>
          </p:blipFill>
          <p:spPr>
            <a:xfrm>
              <a:off x="152280" y="990720"/>
              <a:ext cx="304812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140" name="Group 20"/>
          <p:cNvGrpSpPr/>
          <p:nvPr/>
        </p:nvGrpSpPr>
        <p:grpSpPr>
          <a:xfrm>
            <a:off x="457200" y="762120"/>
            <a:ext cx="7734240" cy="4724280"/>
            <a:chOff x="457200" y="762120"/>
            <a:chExt cx="7734240" cy="4724280"/>
          </a:xfrm>
        </p:grpSpPr>
        <p:pic>
          <p:nvPicPr>
            <p:cNvPr id="141" name="Picture 21" descr="Изображение 101"/>
            <p:cNvPicPr/>
            <p:nvPr/>
          </p:nvPicPr>
          <p:blipFill>
            <a:blip r:embed="rId4"/>
            <a:stretch/>
          </p:blipFill>
          <p:spPr>
            <a:xfrm>
              <a:off x="4648320" y="762120"/>
              <a:ext cx="3543120" cy="47242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42" name="Picture 22" descr="Изображение 102"/>
            <p:cNvPicPr/>
            <p:nvPr/>
          </p:nvPicPr>
          <p:blipFill>
            <a:blip r:embed="rId5"/>
            <a:stretch/>
          </p:blipFill>
          <p:spPr>
            <a:xfrm>
              <a:off x="457200" y="762120"/>
              <a:ext cx="3543480" cy="47242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143" name="Group 23"/>
          <p:cNvGrpSpPr/>
          <p:nvPr/>
        </p:nvGrpSpPr>
        <p:grpSpPr>
          <a:xfrm>
            <a:off x="304920" y="1295280"/>
            <a:ext cx="8305200" cy="3886200"/>
            <a:chOff x="304920" y="1295280"/>
            <a:chExt cx="8305200" cy="3886200"/>
          </a:xfrm>
        </p:grpSpPr>
        <p:pic>
          <p:nvPicPr>
            <p:cNvPr id="144" name="Picture 24" descr="Изображение 105"/>
            <p:cNvPicPr/>
            <p:nvPr/>
          </p:nvPicPr>
          <p:blipFill>
            <a:blip r:embed="rId6"/>
            <a:stretch/>
          </p:blipFill>
          <p:spPr>
            <a:xfrm rot="5400000">
              <a:off x="-152280" y="1752480"/>
              <a:ext cx="3886200" cy="297144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45" name="Picture 25" descr="Изображение 104"/>
            <p:cNvPicPr/>
            <p:nvPr/>
          </p:nvPicPr>
          <p:blipFill>
            <a:blip r:embed="rId7"/>
            <a:stretch/>
          </p:blipFill>
          <p:spPr>
            <a:xfrm>
              <a:off x="3429000" y="1295280"/>
              <a:ext cx="5181120" cy="38862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146" name="Text Box 26"/>
          <p:cNvSpPr/>
          <p:nvPr/>
        </p:nvSpPr>
        <p:spPr>
          <a:xfrm>
            <a:off x="7010280" y="304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Прих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315200" y="3049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Гост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638680" y="3049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Комната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0" y="7621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«Комната окру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4724280" y="7621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Детская (комната Маш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Это первая комната второго этажа. Отсюда мы отправляемся знакомиться с личными покоями семьи Чех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0" y="5181480"/>
            <a:ext cx="929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собирались многочисленные родственники и друзья. По свидетельству близких , в гостиной устраивались домашние спектакли; автором и исполнителем многих сценок и юморесок был Антон Чехов, играл прекр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152280" y="5562720"/>
            <a:ext cx="89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Monotype Corsiva"/>
              </a:rPr>
              <a:t>Здесь - швейная машинка Евгении Яковлевны, на которой однажды разорванные Антоном брюки втайне от отца перешивали  младшему Михаи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0" y="5181480"/>
            <a:ext cx="3352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Экспозиция рассказывает о родственниках  Чеховых и близких  к семье в 60-70 годы XIX века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52680" y="5105520"/>
            <a:ext cx="57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В одной из детских комнат мальчики спали, в другой, Машиной, оставалось место для письменного стола, за ним братья Чеховы делали уроки. Играли тоже зд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8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"/>
          <p:cNvSpPr/>
          <p:nvPr/>
        </p:nvSpPr>
        <p:spPr>
          <a:xfrm>
            <a:off x="152280" y="3049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Фотография на стене: семья Чеховых  в 187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269466565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48261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59" name="Text Box 14"/>
          <p:cNvSpPr/>
          <p:nvPr/>
        </p:nvSpPr>
        <p:spPr>
          <a:xfrm>
            <a:off x="6781680" y="838080"/>
            <a:ext cx="2362320" cy="80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Monotype Corsiva"/>
              </a:rPr>
              <a:t>Вглядитесь повнимательнее в лица родителей Антона Чехо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Monotype Corsiva"/>
              </a:rPr>
              <a:t>Почему так грустны их глаза? Казалось бы, надо радоваться, ведь в 1874 был построен новый, собственный дом, о котором так мечтал Павел Егорович – «родовое гнездо»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>
            <a:hlinkClick r:id="rId2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00"/>
                </a:solidFill>
                <a:latin typeface="Monotype Corsiva"/>
              </a:rPr>
              <a:t>«Родовое гнездо», ул.Розы Люксембург, 74  (бывшая Елисаветинская улиц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Изображение 71"/>
          <p:cNvPicPr/>
          <p:nvPr/>
        </p:nvPicPr>
        <p:blipFill>
          <a:blip r:embed="rId1"/>
          <a:stretch/>
        </p:blipFill>
        <p:spPr>
          <a:xfrm>
            <a:off x="5791320" y="3809880"/>
            <a:ext cx="3200400" cy="22352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63" name="Picture 10" descr="сканир"/>
          <p:cNvPicPr/>
          <p:nvPr/>
        </p:nvPicPr>
        <p:blipFill>
          <a:blip r:embed="rId2"/>
          <a:stretch/>
        </p:blipFill>
        <p:spPr>
          <a:xfrm>
            <a:off x="228600" y="3886200"/>
            <a:ext cx="3048120" cy="2128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4" name="Text Box 11"/>
          <p:cNvSpPr/>
          <p:nvPr/>
        </p:nvSpPr>
        <p:spPr>
          <a:xfrm>
            <a:off x="228600" y="59436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50-х годов </a:t>
            </a:r>
            <a:r>
              <a:rPr b="1" lang="en-US" sz="2400" spc="-1" strike="noStrike">
                <a:solidFill>
                  <a:srgbClr val="800000"/>
                </a:solidFill>
                <a:latin typeface="Monotype Corsiva"/>
              </a:rPr>
              <a:t>XX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638680" y="5943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овременная фотограф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000156"/>
          <p:cNvPicPr/>
          <p:nvPr/>
        </p:nvPicPr>
        <p:blipFill>
          <a:blip r:embed="rId3"/>
          <a:stretch/>
        </p:blipFill>
        <p:spPr>
          <a:xfrm>
            <a:off x="3048120" y="1371600"/>
            <a:ext cx="3128760" cy="2209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7" name="Text Box 15"/>
          <p:cNvSpPr/>
          <p:nvPr/>
        </p:nvSpPr>
        <p:spPr>
          <a:xfrm>
            <a:off x="2971800" y="3505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начала </a:t>
            </a:r>
            <a:r>
              <a:rPr b="1" lang="en-US" sz="2400" spc="-1" strike="noStrike">
                <a:solidFill>
                  <a:srgbClr val="800000"/>
                </a:solidFill>
                <a:latin typeface="Monotype Corsiva"/>
              </a:rPr>
              <a:t>XX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Изображение 73"/>
          <p:cNvPicPr/>
          <p:nvPr/>
        </p:nvPicPr>
        <p:blipFill>
          <a:blip r:embed="rId4"/>
          <a:stretch/>
        </p:blipFill>
        <p:spPr>
          <a:xfrm>
            <a:off x="3733920" y="4343400"/>
            <a:ext cx="1676160" cy="148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9" name="AutoShape 1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228600" y="57913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Изображение 72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0560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72" name="Picture 12" descr="Изображение 73"/>
          <p:cNvPicPr/>
          <p:nvPr/>
        </p:nvPicPr>
        <p:blipFill>
          <a:blip r:embed="rId2"/>
          <a:stretch/>
        </p:blipFill>
        <p:spPr>
          <a:xfrm>
            <a:off x="228600" y="1295280"/>
            <a:ext cx="1981080" cy="175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73" name="Rectangle 13"/>
          <p:cNvSpPr/>
          <p:nvPr/>
        </p:nvSpPr>
        <p:spPr>
          <a:xfrm>
            <a:off x="838080" y="457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«Родовое гнез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286000" y="1600200"/>
            <a:ext cx="6705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Мы не войдём в этот дом. И не только потому, что это частное владение и здесь почти не осталось следов пребывания семьи Чех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нахлебник"/>
          <p:cNvPicPr/>
          <p:nvPr/>
        </p:nvPicPr>
        <p:blipFill>
          <a:blip r:embed="rId3"/>
          <a:stretch/>
        </p:blipFill>
        <p:spPr>
          <a:xfrm>
            <a:off x="7848720" y="434340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2 письма"/>
          <p:cNvPicPr/>
          <p:nvPr/>
        </p:nvPicPr>
        <p:blipFill>
          <a:blip r:embed="rId4"/>
          <a:stretch/>
        </p:blipFill>
        <p:spPr>
          <a:xfrm>
            <a:off x="7848720" y="533412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8"/>
          <p:cNvSpPr/>
          <p:nvPr/>
        </p:nvSpPr>
        <p:spPr>
          <a:xfrm>
            <a:off x="4724280" y="335268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Просто Антон Чехов прожил здесь далеко не самые счастливые пять лет сво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3" descr="письмо Е"/>
          <p:cNvPicPr/>
          <p:nvPr/>
        </p:nvPicPr>
        <p:blipFill>
          <a:blip r:embed="rId5"/>
          <a:stretch/>
        </p:blipFill>
        <p:spPr>
          <a:xfrm>
            <a:off x="228600" y="1143000"/>
            <a:ext cx="3699000" cy="510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книга М"/>
          <p:cNvPicPr/>
          <p:nvPr/>
        </p:nvPicPr>
        <p:blipFill>
          <a:blip r:embed="rId6"/>
          <a:stretch/>
        </p:blipFill>
        <p:spPr>
          <a:xfrm>
            <a:off x="152280" y="1219320"/>
            <a:ext cx="3699000" cy="5029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5"/>
          <p:cNvSpPr/>
          <p:nvPr/>
        </p:nvSpPr>
        <p:spPr>
          <a:xfrm>
            <a:off x="3962520" y="1219320"/>
            <a:ext cx="518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Дом строился в долг и обошёлся непомерно дорого. П.Е.Чехов вынужден бежать от долгов в Москву, за ним уезжает и Е.Я.Чехова с младшими детьми. Старшие – уже студенты, и Антон остаётся один, нахлебником (репетитором племянника) у  того самого Гавриила Парфентьевича Селиванова в своём бывшем «родовом гнез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4114800" y="121932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нтон вынужден распродавать остатки имущества, зарабатывать себе на жизнь самостоятельно и отсылать деньги бедствующей в Москве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7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10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Конечно, Антон Чехов справился с трудностями: окончил гимназию, уехал в Москву, поступил в университет, стал великим писателем. А потом не раз приезжал в Таганрог, помогал родному го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Но это уже совсем другая и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mage005"/>
          <p:cNvPicPr/>
          <p:nvPr/>
        </p:nvPicPr>
        <p:blipFill>
          <a:blip r:embed="rId1"/>
          <a:stretch/>
        </p:blipFill>
        <p:spPr>
          <a:xfrm>
            <a:off x="990720" y="838080"/>
            <a:ext cx="1384200" cy="19051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86" name="Picture 6" descr="Chehov-1879"/>
          <p:cNvPicPr/>
          <p:nvPr/>
        </p:nvPicPr>
        <p:blipFill>
          <a:blip r:embed="rId2"/>
          <a:stretch/>
        </p:blipFill>
        <p:spPr>
          <a:xfrm>
            <a:off x="6477120" y="838080"/>
            <a:ext cx="1484280" cy="19051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Solitary Bird2.wma" descr=""/>
          <p:cNvPicPr/>
          <p:nvPr/>
        </p:nvPicPr>
        <p:blipFill>
          <a:blip r:embed="rId3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813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www.library.taganrog.ru/chehov/alley/taganrog/17.jpg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мемориальная доска на Домике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info-cam.ru/gallery/data/media/155/P1030836G1.jpg - Домик Чехова, вид сб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fotki.yandex.ru/users/aig1001/view/288492/?page=2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 гостина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fotki.yandex.ru/users/aig1001/view/288508/?page=2 – кухн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voopiik-don.ru/main/images/stories/dates/Chhouse.jpg - фото Домика Чехова 1934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46 – рисунок  Домика 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3 – рисунок  дома П.Е.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http://fotki.yandex.ru/users/slxk82/view/258897/?page=1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Лавка Чеховых  (фаса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http://ymp3.ru/track25921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«Преображенский марш» в исполнении хора «Валаам» под управлением И.Ушакова – слайд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bit.tsure.ru/chechov/ger/museum/img/shop/3_1/avtograf_s.jpg - первый автограф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838080"/>
            <a:ext cx="85341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5"/>
              </a:rPr>
              <a:t>http://www.library.taganrog.ru/chehov/alley/taganrog/17.jpg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мемориальная доска на Домике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info-cam.ru/gallery/data/media/155/P1030836G1.jpg - Домик Чехова, вид сб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6"/>
              </a:rPr>
              <a:t>http://fotki.yandex.ru/users/aig1001/view/288492/?page=2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 гостина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fotki.yandex.ru/users/aig1001/view/288508/?page=2 – кухн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voopiik-don.ru/main/images/stories/dates/Chhouse.jpg - фото Домика Чехова 1934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46 – рисунок  Домика 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3 – рисунок  дома П.Е.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7"/>
              </a:rPr>
              <a:t>http://fotki.yandex.ru/users/slxk82/view/258897/?page=1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Лавка Чеховых  (фаса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8"/>
              </a:rPr>
              <a:t>http://ymp3.ru/track25921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«Преображенский марш» в исполнении хора «Валаам» под управлением И.Ушакова – слайд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bit.tsure.ru/chechov/ger/museum/img/shop/3_1/avtograf_s.jpg - первый автограф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rys-arhipelag.ucoz.ru/_ph/29/269466565.jpg - фото семьи Чеховых 1874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4 – текст письма Е.Я.Чеховой А.П.Чехову от 25 ноября 1876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4-65 – информация слайда 13 («Нахлебник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ttp://apchekhov.ru/books/item/f00/s00/z0000033/pic/00015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исунок дома П.Е.Чехова, начало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library.taganrog.ru/history/historylibraryoftaganrog/historylibraryoftaganrog.files/image005.jpg - фотография Антона Чехова 1874г. (слайд 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manwb.ru/pub/Pictures-Articles/2010/02/Chehov/Chehov-1879.jpg - фотография Антона Чехова 1879г., в день окончания гимназии (слайд 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узыкальная композиция «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olitary Bird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» (исполнитель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sha (Denis Quinn)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альбом «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Open Secret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» 1987г. – слайды 1 и 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отографии из личного арх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ля маршрутного листа 3 ДОМА ЧЕХОВА_1"/>
          <p:cNvPicPr/>
          <p:nvPr/>
        </p:nvPicPr>
        <p:blipFill>
          <a:blip r:embed="rId1"/>
          <a:stretch/>
        </p:blipFill>
        <p:spPr>
          <a:xfrm>
            <a:off x="457200" y="4267080"/>
            <a:ext cx="220968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для маршрутного листа 3 ДОМА ЧЕХОВА_2"/>
          <p:cNvPicPr/>
          <p:nvPr/>
        </p:nvPicPr>
        <p:blipFill>
          <a:blip r:embed="rId2"/>
          <a:stretch/>
        </p:blipFill>
        <p:spPr>
          <a:xfrm>
            <a:off x="3429000" y="4267080"/>
            <a:ext cx="2209680" cy="169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для маршрутного листа 3 ДОМА ЧЕХОВА_3"/>
          <p:cNvPicPr/>
          <p:nvPr/>
        </p:nvPicPr>
        <p:blipFill>
          <a:blip r:embed="rId3"/>
          <a:stretch/>
        </p:blipFill>
        <p:spPr>
          <a:xfrm>
            <a:off x="6553080" y="4267080"/>
            <a:ext cx="2210040" cy="1689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17"/>
          <p:cNvSpPr txBox="1"/>
          <p:nvPr/>
        </p:nvSpPr>
        <p:spPr>
          <a:xfrm>
            <a:off x="685800" y="990720"/>
            <a:ext cx="7772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Маршрут экскурси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2743200" y="4800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9"/>
          <p:cNvSpPr/>
          <p:nvPr/>
        </p:nvSpPr>
        <p:spPr>
          <a:xfrm>
            <a:off x="5715000" y="4800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57200" y="5867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4" action="ppaction://hlinksldjump"/>
              </a:rPr>
              <a:t>Домик Че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505320" y="586728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Лавка Чех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553080" y="5867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«Родовое гнез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6"/>
          <p:cNvGrpSpPr/>
          <p:nvPr/>
        </p:nvGrpSpPr>
        <p:grpSpPr>
          <a:xfrm>
            <a:off x="152280" y="1523880"/>
            <a:ext cx="8382240" cy="3429000"/>
            <a:chOff x="152280" y="1523880"/>
            <a:chExt cx="8382240" cy="3429000"/>
          </a:xfrm>
        </p:grpSpPr>
        <p:pic>
          <p:nvPicPr>
            <p:cNvPr id="59" name="Picture 18" descr="вход во двор Домика Чехова_1"/>
            <p:cNvPicPr/>
            <p:nvPr/>
          </p:nvPicPr>
          <p:blipFill>
            <a:blip r:embed="rId1"/>
            <a:stretch/>
          </p:blipFill>
          <p:spPr>
            <a:xfrm>
              <a:off x="441972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60" name="Picture 25" descr="Домик Чехова издали"/>
            <p:cNvPicPr/>
            <p:nvPr/>
          </p:nvPicPr>
          <p:blipFill>
            <a:blip r:embed="rId2"/>
            <a:srcRect l="0" t="0" r="4837" b="0"/>
            <a:stretch/>
          </p:blipFill>
          <p:spPr>
            <a:xfrm>
              <a:off x="15228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61" name="Group 27"/>
          <p:cNvGrpSpPr/>
          <p:nvPr/>
        </p:nvGrpSpPr>
        <p:grpSpPr>
          <a:xfrm>
            <a:off x="152280" y="1523880"/>
            <a:ext cx="8381880" cy="3429000"/>
            <a:chOff x="152280" y="1523880"/>
            <a:chExt cx="8381880" cy="3429000"/>
          </a:xfrm>
        </p:grpSpPr>
        <p:pic>
          <p:nvPicPr>
            <p:cNvPr id="62" name="Picture 28" descr="P1030836G1"/>
            <p:cNvPicPr/>
            <p:nvPr/>
          </p:nvPicPr>
          <p:blipFill>
            <a:blip r:embed="rId3"/>
            <a:stretch/>
          </p:blipFill>
          <p:spPr>
            <a:xfrm>
              <a:off x="15228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63" name="Picture 29" descr="Домик Чехова издали"/>
            <p:cNvPicPr/>
            <p:nvPr/>
          </p:nvPicPr>
          <p:blipFill>
            <a:blip r:embed="rId4"/>
            <a:srcRect l="0" t="0" r="4837" b="0"/>
            <a:stretch/>
          </p:blipFill>
          <p:spPr>
            <a:xfrm>
              <a:off x="441936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64" name="AutoShape 33"/>
          <p:cNvSpPr/>
          <p:nvPr/>
        </p:nvSpPr>
        <p:spPr>
          <a:xfrm>
            <a:off x="8610480" y="2743200"/>
            <a:ext cx="381240" cy="11430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152280" y="30492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Мемориальный музей «Домик Чехова»,  ул.Чехова,69 (бывшая Полицейская у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5" descr="17"/>
          <p:cNvPicPr/>
          <p:nvPr/>
        </p:nvPicPr>
        <p:blipFill>
          <a:blip r:embed="rId5"/>
          <a:stretch/>
        </p:blipFill>
        <p:spPr>
          <a:xfrm>
            <a:off x="152280" y="5181480"/>
            <a:ext cx="1600200" cy="11448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7" name="Text Box 36"/>
          <p:cNvSpPr/>
          <p:nvPr/>
        </p:nvSpPr>
        <p:spPr>
          <a:xfrm>
            <a:off x="3048120" y="5105520"/>
            <a:ext cx="55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 этом маленьком домике, совсем не похожем на купеческий, прошёл первый год жизни будущего великого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8839080" y="2743200"/>
            <a:ext cx="304920" cy="1143000"/>
          </a:xfrm>
          <a:custGeom>
            <a:avLst/>
            <a:gdLst>
              <a:gd name="textAreaLeft" fmla="*/ 0 w 304920"/>
              <a:gd name="textAreaRight" fmla="*/ 305280 w 304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0" y="1219320"/>
            <a:ext cx="8691120" cy="3657600"/>
            <a:chOff x="0" y="1219320"/>
            <a:chExt cx="8691120" cy="3657600"/>
          </a:xfrm>
        </p:grpSpPr>
        <p:pic>
          <p:nvPicPr>
            <p:cNvPr id="71" name="Picture 2" descr="Изображение 010"/>
            <p:cNvPicPr/>
            <p:nvPr/>
          </p:nvPicPr>
          <p:blipFill>
            <a:blip r:embed="rId1"/>
            <a:stretch/>
          </p:blipFill>
          <p:spPr>
            <a:xfrm>
              <a:off x="5948280" y="1219320"/>
              <a:ext cx="274284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2" name="Picture 3" descr="Изображение 005"/>
            <p:cNvPicPr/>
            <p:nvPr/>
          </p:nvPicPr>
          <p:blipFill>
            <a:blip r:embed="rId2"/>
            <a:stretch/>
          </p:blipFill>
          <p:spPr>
            <a:xfrm>
              <a:off x="3051000" y="1219320"/>
              <a:ext cx="281736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3" name="Picture 5" descr="0_466fc_1d85fc59_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1219320"/>
              <a:ext cx="295740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74" name="Text Box 6"/>
          <p:cNvSpPr/>
          <p:nvPr/>
        </p:nvSpPr>
        <p:spPr>
          <a:xfrm>
            <a:off x="1219320" y="5105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Кухня (крошечная!). Здесь Евгения Яковлевна готовила еду для семьи из пяти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019920" y="5105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Холодные с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524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Домик Чех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228600" y="1219320"/>
            <a:ext cx="8534520" cy="4114800"/>
            <a:chOff x="228600" y="1219320"/>
            <a:chExt cx="8534520" cy="4114800"/>
          </a:xfrm>
        </p:grpSpPr>
        <p:pic>
          <p:nvPicPr>
            <p:cNvPr id="78" name="Picture 11" descr="Изображение 009"/>
            <p:cNvPicPr/>
            <p:nvPr/>
          </p:nvPicPr>
          <p:blipFill>
            <a:blip r:embed="rId5"/>
            <a:stretch/>
          </p:blipFill>
          <p:spPr>
            <a:xfrm>
              <a:off x="228600" y="1219320"/>
              <a:ext cx="308628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9" name="Picture 12" descr="гостиная ДЧ"/>
            <p:cNvPicPr/>
            <p:nvPr/>
          </p:nvPicPr>
          <p:blipFill>
            <a:blip r:embed="rId6"/>
            <a:stretch/>
          </p:blipFill>
          <p:spPr>
            <a:xfrm>
              <a:off x="3429000" y="1219320"/>
              <a:ext cx="5334120" cy="4087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80" name="Group 13"/>
          <p:cNvGrpSpPr/>
          <p:nvPr/>
        </p:nvGrpSpPr>
        <p:grpSpPr>
          <a:xfrm>
            <a:off x="152280" y="1828800"/>
            <a:ext cx="8483760" cy="3162240"/>
            <a:chOff x="152280" y="1828800"/>
            <a:chExt cx="8483760" cy="3162240"/>
          </a:xfrm>
        </p:grpSpPr>
        <p:pic>
          <p:nvPicPr>
            <p:cNvPr id="81" name="Picture 14" descr="Изображение 006"/>
            <p:cNvPicPr/>
            <p:nvPr/>
          </p:nvPicPr>
          <p:blipFill>
            <a:blip r:embed="rId7"/>
            <a:stretch/>
          </p:blipFill>
          <p:spPr>
            <a:xfrm>
              <a:off x="4419360" y="1828800"/>
              <a:ext cx="4216680" cy="316224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82" name="Picture 15" descr="Изображение 007"/>
            <p:cNvPicPr/>
            <p:nvPr/>
          </p:nvPicPr>
          <p:blipFill>
            <a:blip r:embed="rId8"/>
            <a:stretch/>
          </p:blipFill>
          <p:spPr>
            <a:xfrm>
              <a:off x="152280" y="1828800"/>
              <a:ext cx="4191120" cy="314316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83" name="Text Box 16"/>
          <p:cNvSpPr/>
          <p:nvPr/>
        </p:nvSpPr>
        <p:spPr>
          <a:xfrm>
            <a:off x="-228600" y="52578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Гостиная. Разрешение на ведение торговли Павлом Егоровичем Чех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4038480" y="54864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Гостиная, она же стол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800" y="51814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Спальня родителей и маленького Анто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3809880" y="4952880"/>
            <a:ext cx="5334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Детская. Здесь старшие  сын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Александр и Николай спали по очеред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один на кровати, другой на сунд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Chhouse"/>
          <p:cNvPicPr/>
          <p:nvPr/>
        </p:nvPicPr>
        <p:blipFill>
          <a:blip r:embed="rId1"/>
          <a:stretch/>
        </p:blipFill>
        <p:spPr>
          <a:xfrm>
            <a:off x="228600" y="990720"/>
            <a:ext cx="3733920" cy="2487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89" name="Picture 18" descr="ch-htos1"/>
          <p:cNvPicPr/>
          <p:nvPr/>
        </p:nvPicPr>
        <p:blipFill>
          <a:blip r:embed="rId2"/>
          <a:stretch/>
        </p:blipFill>
        <p:spPr>
          <a:xfrm>
            <a:off x="2819520" y="3581280"/>
            <a:ext cx="3733560" cy="24847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90" name="Picture 19" descr="сканир"/>
          <p:cNvPicPr/>
          <p:nvPr/>
        </p:nvPicPr>
        <p:blipFill>
          <a:blip r:embed="rId3"/>
          <a:stretch/>
        </p:blipFill>
        <p:spPr>
          <a:xfrm>
            <a:off x="5181480" y="990720"/>
            <a:ext cx="3733920" cy="24890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История музея в изображе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Фотография 19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6629400" y="3429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124080" y="6019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овременная фот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>
            <a:hlinkClick r:id="rId4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вывеска"/>
          <p:cNvPicPr/>
          <p:nvPr/>
        </p:nvPicPr>
        <p:blipFill>
          <a:blip r:embed="rId1"/>
          <a:stretch/>
        </p:blipFill>
        <p:spPr>
          <a:xfrm>
            <a:off x="6629400" y="2133720"/>
            <a:ext cx="2133720" cy="1172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97" name="Picture 17" descr="лавка Чеховых после ремонта"/>
          <p:cNvPicPr/>
          <p:nvPr/>
        </p:nvPicPr>
        <p:blipFill>
          <a:blip r:embed="rId2"/>
          <a:stretch/>
        </p:blipFill>
        <p:spPr>
          <a:xfrm>
            <a:off x="304920" y="2133720"/>
            <a:ext cx="5892840" cy="3924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Мемориальный музей «Лавка Чеховых», перекрёсток улицы Александровской (бывшей Монастырской) и переулка Гоголевского (бывшего Ярмарочн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324480" y="49528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семья Чеховых проживала с 1861 по 1874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5333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«Мы занимали большой двухэтажный дом. Внизу помещ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322400" y="60958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(М.П.Чех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5791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магазин нашего о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891520" y="57913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кух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728160" y="57913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сто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38600" y="5791320"/>
            <a:ext cx="41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и еще две комнат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Изображение 108"/>
          <p:cNvPicPr/>
          <p:nvPr/>
        </p:nvPicPr>
        <p:blipFill>
          <a:blip r:embed="rId1"/>
          <a:stretch/>
        </p:blipFill>
        <p:spPr>
          <a:xfrm>
            <a:off x="1447920" y="666720"/>
            <a:ext cx="6324480" cy="4743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09" name="Picture 13" descr="Изображение 096"/>
          <p:cNvPicPr/>
          <p:nvPr/>
        </p:nvPicPr>
        <p:blipFill>
          <a:blip r:embed="rId2"/>
          <a:stretch/>
        </p:blipFill>
        <p:spPr>
          <a:xfrm>
            <a:off x="5181480" y="685800"/>
            <a:ext cx="3543480" cy="47242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0" name="Picture 14" descr="Изображение 095"/>
          <p:cNvPicPr/>
          <p:nvPr/>
        </p:nvPicPr>
        <p:blipFill>
          <a:blip r:embed="rId3"/>
          <a:stretch/>
        </p:blipFill>
        <p:spPr>
          <a:xfrm>
            <a:off x="1676520" y="2895480"/>
            <a:ext cx="3352680" cy="2514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1" name="Picture 15" descr="Изображение 097"/>
          <p:cNvPicPr/>
          <p:nvPr/>
        </p:nvPicPr>
        <p:blipFill>
          <a:blip r:embed="rId4"/>
          <a:stretch/>
        </p:blipFill>
        <p:spPr>
          <a:xfrm>
            <a:off x="152280" y="685800"/>
            <a:ext cx="3200400" cy="2400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2" name="Picture 16" descr="Изображение 093"/>
          <p:cNvPicPr/>
          <p:nvPr/>
        </p:nvPicPr>
        <p:blipFill>
          <a:blip r:embed="rId5"/>
          <a:stretch/>
        </p:blipFill>
        <p:spPr>
          <a:xfrm>
            <a:off x="1371600" y="685800"/>
            <a:ext cx="6248520" cy="4686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13" name="AutoShape 1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Изображение 093"/>
          <p:cNvPicPr/>
          <p:nvPr/>
        </p:nvPicPr>
        <p:blipFill>
          <a:blip r:embed="rId6"/>
          <a:stretch/>
        </p:blipFill>
        <p:spPr>
          <a:xfrm>
            <a:off x="457200" y="1981080"/>
            <a:ext cx="3886200" cy="29149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15" name="Text Box 21"/>
          <p:cNvSpPr/>
          <p:nvPr/>
        </p:nvSpPr>
        <p:spPr>
          <a:xfrm>
            <a:off x="4724280" y="1981080"/>
            <a:ext cx="38102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Это была очень необычная столовая: дважды в неделю здесь проходили спевки хора кузнецов под руководством Павла Егоровича Чех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от так: по роду занятий - лавочник, в душе – арт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еображенский марш 2.wma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2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2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3 -0.69952 E">
                                      <p:cBhvr>
                                        <p:cTn id="2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673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3233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4233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5233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7233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9233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ридор перв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5331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Изображение 107"/>
          <p:cNvPicPr/>
          <p:nvPr/>
        </p:nvPicPr>
        <p:blipFill>
          <a:blip r:embed="rId1"/>
          <a:stretch/>
        </p:blipFill>
        <p:spPr>
          <a:xfrm>
            <a:off x="4648320" y="1219320"/>
            <a:ext cx="3809880" cy="28573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20" name="Rectangle 15"/>
          <p:cNvSpPr/>
          <p:nvPr/>
        </p:nvSpPr>
        <p:spPr>
          <a:xfrm>
            <a:off x="380880" y="4343400"/>
            <a:ext cx="375300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 музее представлен и «пер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втограф» будущего писате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однажды Павла Егоровича не было в лавке, и расписаться за  товар пришлось Ант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152280" y="152388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мы видим торговые вес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на которых работал П.Е.Чех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 порой и Антон, рано начавший (без особого, впрочем, желания) помогать отцу в ла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avtograf_s"/>
          <p:cNvPicPr/>
          <p:nvPr/>
        </p:nvPicPr>
        <p:blipFill>
          <a:blip r:embed="rId2"/>
          <a:stretch/>
        </p:blipFill>
        <p:spPr>
          <a:xfrm>
            <a:off x="5715000" y="4648320"/>
            <a:ext cx="1962000" cy="14126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Изображение 098"/>
          <p:cNvPicPr/>
          <p:nvPr/>
        </p:nvPicPr>
        <p:blipFill>
          <a:blip r:embed="rId1"/>
          <a:stretch/>
        </p:blipFill>
        <p:spPr>
          <a:xfrm>
            <a:off x="4648320" y="1066680"/>
            <a:ext cx="3790800" cy="5054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ридор перв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3733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80880" y="1676520"/>
            <a:ext cx="320040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Чуть поодаль – уд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 такими будущий писатель со старшими братьями ходил к морю на ловлю знаменитых таганрогских бы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кнопка поплавок-человечек"/>
          <p:cNvPicPr/>
          <p:nvPr/>
        </p:nvPicPr>
        <p:blipFill>
          <a:blip r:embed="rId2"/>
          <a:stretch/>
        </p:blipFill>
        <p:spPr>
          <a:xfrm>
            <a:off x="1219320" y="5029200"/>
            <a:ext cx="1352520" cy="109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НАДПИСЬ поплавок-человечек"/>
          <p:cNvPicPr/>
          <p:nvPr/>
        </p:nvPicPr>
        <p:blipFill>
          <a:blip r:embed="rId3"/>
          <a:stretch/>
        </p:blipFill>
        <p:spPr>
          <a:xfrm>
            <a:off x="3657600" y="838080"/>
            <a:ext cx="510552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4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30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Васильевна</cp:lastModifiedBy>
  <dcterms:modified xsi:type="dcterms:W3CDTF">2012-10-10T10:48:42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